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396-4D80-48FC-8720-9B1989571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F71-B93D-4CF6-9AB4-93B87A37F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itle on this slide is the Checkpoint question from page 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ll four solutions given on page 43 in the text for the photocop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Employees are using the photocopier for personal use. This has created issues with reduced productivity during work hours and is costing the business about $80 a month in paper, toner, and wear on the photocopier. It seems that 3 of the 13 employees account for almost of all of the personal photocop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1: Live with the problem and absorb the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2: Reprimand problem employees and reinforce that the photocopier is to be used for busines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3: Ask a manager to watch the photocopier and to report to him when an employee uses the machine inappropr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4: Allow the photocopier to be used for personal use after hours for a minimal charge, and remind employees that no personal photocopying is permitted during business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ith the class, and rank the solutions provided on previou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trepreneur often must make decisions alone, but sometimes employees or other people should be involved in solving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important to keep in mind that ideas should not be analyzed or critiqued at a brainstorming se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the brainstorming session, all of the ideas should be carefully evaluated and a practical list prep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nsus-based Decision 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nsus building can be used to prevent and resolve confli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also be used to build trust among employees and to bring together different groups within a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bridge communication problems and help employees accept changes they may see as threa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es with conflicting opinions meet in an atmosphere of mutual respect to try to eliminate anger and hostility and come up with a solution that is acceptable to all of the peopl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form of business writing is the business l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 Ask Checkpoint question before showing full text of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at are some of the characteristics of good business wri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handwritten letters only when they are intended as person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showy phrases that you would not use while speaking. Use straightforward language that says what you m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deal in a business-like fashion. Never become abusive or insu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some appropriate clos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r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rely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ially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ive three important tips you should keep in mind when conducting a business conversation on the teleph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ive three important tips you should keep in mind when conducting a busines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y is it important for entrepreneurs to listen carefull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 Cri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important for an entrepreneur to listen to employees? Why is it important to listen to custom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to employees solves problems and improves mor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to customers helps you know how to meet their needs and thus improve 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 Cri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riting a formal business letter and writing a letter to a friend differ? What elements in a business letter would not appear in the letter to your fri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letters are more formal and conci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to friends might not be typed or put on letterhead and would not include the recipient’s add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speaking with customers and suppliers on the telephone similar to speaking with them face-to-face? How is it different? Is it necessary to have both types of communication? Why or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require you to speak clearly, be polite, and plan your convers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fferent because you cannot see the other person’s reaction when speaking on the teleph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eferable to have both types of communication to help develop good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9C73-5180-4B72-ACC3-21AFF84F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1667-8BF7-46D0-9FE2-5077AE170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B9CA-DAB0-452E-A4D1-855C839E5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CA8-BEE2-4724-BE50-6B21F81B7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B370-BCBF-4A8A-8034-2B91EBAD2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8D1A-034C-469A-ABF5-4E88C975E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02C2-35CD-4D95-9CDB-B493D89F4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9C9B-AF56-4ACC-BC6B-AB9BEDA12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EF66-1A70-46C1-9275-CEEB659CA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355D-DB73-43FF-8FD4-8401DF785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2391-5BD7-424C-9216-A4D542499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82EA-ACF9-42C1-93E3-CB0ED928D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99"/>
              </a:spcBef>
              <a:buClr>
                <a:srgbClr val="33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412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60640" indent="-231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0336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03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03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8DE3E205-AD66-4584-A50A-84ED49F80B17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993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spcBef>
                <a:spcPts val="601"/>
              </a:spcBef>
              <a:buClr>
                <a:srgbClr val="ff99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57200" algn="ctr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4596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459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459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022400"/>
            <a:ext cx="662796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WHAT SKILLS DO ENTREPRENEURS NEED?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apter 2</a:t>
            </a: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TH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asic math skills i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using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ales trans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ercenta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19384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D7C6-45B6-4A07-9520-3FF98020F903}" type="slidenum">
              <a:t>10</a:t>
            </a:fld>
          </a:p>
        </p:txBody>
      </p:sp>
    </p:spTree>
  </p:cSld>
  <p:transition spd="med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BUSINESS APPLICATIONS USE PERCENT CALCULATION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inter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ry inter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ups and mar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day for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2800" y="3592440"/>
            <a:ext cx="365580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A243-AEEB-4CCA-8887-FDF69E784DB9}" type="slidenum">
              <a:t>11</a:t>
            </a:fld>
          </a:p>
        </p:txBody>
      </p:sp>
    </p:spTree>
  </p:cSld>
  <p:transition spd="med">
    <p:pull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ix Steps of the Problem-Solving Proc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lternativ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best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0B46-38D1-4323-B597-89F796DCC927}" type="slidenum">
              <a:t>12</a:t>
            </a:fld>
          </a:p>
        </p:txBody>
      </p:sp>
    </p:spTree>
  </p:cSld>
  <p:transition spd="med">
    <p:pull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Define the Problem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at the problem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y it is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as many parts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BF47-7106-4DDB-A966-CD4308BEE51B}" type="slidenum">
              <a:t>13</a:t>
            </a:fld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ather Inform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7E7D-17C9-43FC-A09C-3CF20EA82891}" type="slidenum">
              <a:t>14</a:t>
            </a:fld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dentify Various Solution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blems have more than on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ossibilities should be identified before a final solution is cho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55EF-B89C-43CC-A6C2-92F39ABA5A6E}" type="slidenum">
              <a:t>15</a:t>
            </a:fld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e Alternatives &amp; Select the Best Op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ltern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quantifi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and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ltern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be ranked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’t be qua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7120" y="19051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95E5-50EF-498E-AA25-356785005281}" type="slidenum">
              <a:t>16</a:t>
            </a:fld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ake Ac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best alternative is chosen, the solution must be put into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B5D1-EA28-4289-AC26-826406CC7A27}" type="slidenum">
              <a:t>17</a:t>
            </a:fld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e the Ac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-solving model is not complete until the implemented solution is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that even a well-thought-out solution does no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CD8C-BB99-4946-8650-23B19CB5FB49}" type="slidenum">
              <a:t>18</a:t>
            </a:fld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roup Problem Solving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group problem-solving technique that involves generating a large number of fresh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amo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6576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6386-D447-43D5-BC2A-C812413ECD37}" type="slidenum">
              <a:t>19</a:t>
            </a:fld>
          </a:p>
        </p:txBody>
      </p:sp>
    </p:spTree>
  </p:cSld>
  <p:transition spd="med">
    <p:pull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MMUNICATION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ood skill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3300480" cy="21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98F5-964B-47C2-8AF3-929EFA324A14}" type="slidenum">
              <a:t>2</a:t>
            </a:fld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Y MIGHT YOU WRITE BUSINESS LETTER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custom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purc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 with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500" t="3695" r="22500" b="0"/>
          <a:stretch/>
        </p:blipFill>
        <p:spPr>
          <a:xfrm>
            <a:off x="5791320" y="3276720"/>
            <a:ext cx="24127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3D62-97B7-4DF5-A161-90BBB3ED0CAC}" type="slidenum">
              <a:t>3</a:t>
            </a:fld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OOD BUSINESS WRITING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s ideas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cise and co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results by being positive and persua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7DF5-0FE3-4CD9-AFDA-DA8BE28E9E48}" type="slidenum">
              <a:t>4</a:t>
            </a:fld>
          </a:p>
        </p:txBody>
      </p:sp>
    </p:spTree>
  </p:cSld>
  <p:transition spd="med"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ULES FOR WRITING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BUSINESS LETTER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ll formal correspo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names correctly and have the correct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date your business correspo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ames and titles appropr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direct and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ersuasive and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fanc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o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9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appropriate clo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read for spelling and grammatical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7870-0FD4-47B3-9AA0-50950AC4E9F9}" type="slidenum">
              <a:t>5</a:t>
            </a:fld>
          </a:p>
        </p:txBody>
      </p:sp>
    </p:spTree>
  </p:cSld>
  <p:transition spd="med">
    <p:pull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Y ARE SPEAKING SKILLS IMPORTANT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present yourself will have a major impact on the people with whom you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meetin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ustomer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4ECC-B8B4-4899-9B90-FF2358C605BA}" type="slidenum">
              <a:t>6</a:t>
            </a:fld>
          </a:p>
        </p:txBody>
      </p:sp>
    </p:spTree>
  </p:cSld>
  <p:transition spd="med">
    <p:pull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ELEPHONE TIP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clearly, and talk directly into the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heer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peak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are going to say before you make a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9E1B-2FE3-4EDA-A0AF-E813992A6A3B}" type="slidenum">
              <a:t>7</a:t>
            </a:fld>
          </a:p>
        </p:txBody>
      </p:sp>
    </p:spTree>
  </p:cSld>
  <p:transition spd="med">
    <p:pull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KING THE MOST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ERSONAL CONTACT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 and make eye contact with the person you are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an interest in what the other person is sa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ear rushed or anxious to be somewhere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the person at the end of the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02CA-3728-4468-B9C7-D6CB3BFC471E}" type="slidenum">
              <a:t>8</a:t>
            </a:fld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LISTENING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your attention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is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nd try to understand what the other person is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to make sure you understand what the person is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to confirm what you are h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05440" y="270000"/>
            <a:ext cx="293364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DA88-5150-43AE-9861-FBE6FFF7446B}" type="slidenum">
              <a:t>9</a:t>
            </a:fld>
          </a:p>
        </p:txBody>
      </p:sp>
    </p:spTree>
  </p:cSld>
  <p:transition spd="med"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55:07Z</dcterms:created>
  <dc:creator>M. C. McLaughlin</dc:creator>
  <dc:description/>
  <dc:language>en-US</dc:language>
  <cp:lastModifiedBy> </cp:lastModifiedBy>
  <dcterms:modified xsi:type="dcterms:W3CDTF">2004-03-08T02:49:33Z</dcterms:modified>
  <cp:revision>77</cp:revision>
  <dc:subject/>
  <dc:title>Chapter 2 WHAT SKILLS DO ENTREPRENEURS NEED</dc:title>
</cp:coreProperties>
</file>